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65B6-8E31-41C0-BE5E-3BBB8C4CAAA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4785-4F1F-46BD-AAB3-64D7DE00246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egnaposto piè di pagina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470-82F7-44D7-BEE3-6F1FCE76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21E-8FEC-4778-A63E-5FC62562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ED35C-55A7-4292-B07F-CDA600F8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EED7B-FDB1-44EC-A087-46E941F1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81A35-F877-4519-B413-CA0C643D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0296A-539D-4605-96A1-C00A8CE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79138-704D-446C-A6A9-CB058B54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2F394-064E-41CF-A866-15DCD36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16BD8-8F8A-46DA-91E8-E6A50BAC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CCD89-12A6-434E-BC1D-942564F5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61BD1-7304-4DED-B666-05FF1254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64FAF-4C6C-4E71-B89D-C117B41C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5BC-26CC-436E-8830-7AAFBEDE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37DAB-E4A8-42B8-B778-E615EEDC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E4288-2DC8-4FD4-BC44-6EC47F03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09A32-9AA7-434E-8D27-D28DFA18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49A9D-12A0-42BF-8464-3AA77466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FC97F-14EB-4C96-9A10-711456E2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E72DF-DD5B-40C7-9629-A25FAB59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0DC97-8108-417D-BCDD-B8ADCAB9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AEDFE-9855-44A1-A039-6A45FF7C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45068-8283-45F8-B8CC-E9A75CBF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C28DE-A50D-41F4-8DA8-94958F76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22E-4CE0-4C18-B64E-0585F391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98E22-67E7-4A7C-AB3F-98EDE236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CA1C8-5C5D-49B7-AE6F-4AED0E74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5CF45-4EE0-4B1A-B41C-0C2C9A54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DD16A-3BCF-4B57-BAFA-D2C8D076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F98E0-7C48-438C-AB01-11A12FA2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AF630-A4D2-4781-9C13-64082844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AAA4F-F345-42E3-846D-61E2AC17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B097C-FF90-486C-A596-C2BF44A1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A2904-0BE6-471A-A675-5D6FBB43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80DA1-A12E-48E0-9D62-1F08555D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69E0-0D6E-4FCC-BA52-213B96EB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33D30-E3BB-4584-837B-EB074211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C830C-4BAF-46CB-8498-F42624C1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3E6B3-3DF1-4EEF-BA9C-29CAFB1C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06B1C-1E71-47E1-BC00-A2925982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8480A-9B92-40C2-952E-C312A2FC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534E9-5064-49FF-B536-1B2BBD7A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E0AAD-0B12-43DD-83A8-302EBBB6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0988D-A123-462B-85EE-CD1160BB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A3FAC-FEE3-4864-902E-D20621CA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46500-9642-46AC-96B5-43AE8F59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E247-09D2-4275-B2E7-C16ABD80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2CC71-BED2-406D-9912-2DEAFA60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EE3A2-BA1B-43C6-9377-AB050DC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E4D8D-FA3E-4E67-997E-FCBEAA1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A610A-33A6-4FE7-8AA7-3E786DFC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53CA8-05B8-4A1C-891A-8CBD9169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F4DB-C8F7-4E63-8095-DCD443AE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BDD2-B2FF-44E3-AC26-7AB9DB75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3FC1-865E-4C9B-A340-824E542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7B4E-843B-4CFF-A842-DB2D560F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14B6-C4BC-46E3-BE77-638059F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FB9-CA80-4400-A0EB-8460CB24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719B-1D15-450F-8E14-67FE124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A1C7-4E94-4EE1-BBD0-4323127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3BD0-A9BB-43E8-BCBE-51AF7101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ADD3-680A-4B9B-A913-9F512BD2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A02E-7337-4D86-B62D-1E598E52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9DCD-D350-48C4-B6F2-0563EA14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8665-7CFB-40A4-A066-BA3CE1BE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FBBE-8625-437C-8152-A6EEF218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C565-8B32-4DE0-958D-BFBA5B55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44E2-C888-4E5B-9E63-17B94745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D8D-46BF-4112-A093-DE7D1EE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8CCB-9E1E-43FB-9BEC-D3F49DC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2144-C149-4EEF-A00E-A18990C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BAC87-4C12-47FA-8C2F-29DF61D3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4824-3BF2-481E-8F3C-905B6CF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C351-DB30-4CED-93DE-0223CEB9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AA98-9C31-497C-9CA5-88E4F5F9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F190-0E4D-4D6E-B833-58C60676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FDBB-4164-4E14-876A-BA0DFB1F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2439-AEA4-4F7B-8122-6330C9F2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581F-D366-4885-BD41-05FDF886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92C-F1D7-4F67-8242-5BBAFF8D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61F0-B54C-4E9A-A7BE-CB222E75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355E-9CBA-4214-A290-B6268E50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FA6B1-4251-4E51-8331-9F08FCD2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40FD-096D-4AD6-8B91-5B384299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6636-E141-4FE7-AD82-32BD0F54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5BA1-BD54-4201-BBFB-F3F11EE6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603E-AF71-44A9-8C04-026AF079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4F17-BB7B-442E-8DBB-FBD91E03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11E05-5552-42F1-94D5-7E9A0661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E8AC4-B934-41BB-A148-E1A3C629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2B3-C783-4613-942E-7A5A4C2F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F192-8BBC-4E1A-8C21-1F4B2A2D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5B5E-9145-4400-967F-91E9B85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3543-D2B4-40AD-B42E-B3FA5339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54B70-7EEE-46A6-8AA6-7BD4A10E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FF847-3CD5-442A-B6A2-CB2A4F2C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B97A-56D3-4A8C-BDC3-9141DC0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14B4-72F6-4067-BCCC-D34A79B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011D4-FD1C-4326-967A-873D710C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FFC96-B89B-4B1D-A9DC-BC90C602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5FC13-454A-4E77-98F3-257BE7C2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E75-7E8A-417D-BDBF-D2EB0CFB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E6790-0DB6-49AC-B16B-3F089E40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2F7CA-7B64-4D38-A354-9601CA60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6ACC1-7D4E-43C8-8EAB-C73DBE5F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E4940-C312-432B-BB31-F07EF96D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B1A3C-54D6-4814-80BD-345124EC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2088-9FE7-476B-A0A0-80C0A2D8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63F5-2700-4E4C-B1A6-9BACBA67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095E3-7E96-405C-8387-5BD0B68E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466C1-0AE6-4A68-BD46-A58B44E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5B656-10DB-43E5-A4F0-D2E1736E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975-1990-48BD-B6FD-56CB2449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2C3F7-6482-4EA5-9AFC-88472357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06CAF-280A-414E-9997-56051F8B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D3FA2-2C86-4BF5-B00F-FF5D98E2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72A26-E3B2-4333-A97A-FBAB3710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CD628-9FCB-4C24-8125-5AB5F916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64906-CF3F-4A31-B1BD-D09DF3AC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5D247-1F05-41E1-8D68-28FD989F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86B1-A036-4C4F-AFFF-871F8E61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89DFA-DF9A-47F1-BD29-8D9C5A79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49C78-C975-4E64-BD38-3E5CA5E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978-AF76-4436-B225-6882A231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9556E-BA6F-4EC8-BDC4-A296D13C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DA7A1-5DCF-4FAF-859F-0B6BFF0A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CD182-661C-43DA-9EB6-4565216D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8CE13-3B7A-45F7-BE63-F56E8ED7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A34BB-11CD-4EFC-8CAC-A058B236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409F9-02D2-446D-89FB-9B1F085F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8F79F-8173-4F78-8BF1-B16175B0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449A9-C72E-4EC7-8099-DFB855F3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BCDCF-185F-48B7-9840-BAE9371A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4D4B5-1330-4E6D-80E7-55C9A95E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6A7-A832-440C-B810-BDF6AEF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BA297-E225-4EB8-BF01-D951D5C2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1592-A6AC-410B-9B05-C5CF3FE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460DC-7ED5-47E8-9A25-9B2BF514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2EC44-BE48-418A-8C41-B33677A3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BBC5E-5028-4470-9116-99E89A7E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27C91-472E-4364-B9B4-AAB57AC0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A55B3-0F0D-4CC2-A2DB-83B603E5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D65EC-11BA-4F60-A671-A343C8DA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9363C-AB22-4E46-AA8B-A5C6B821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DF079-CE5F-4789-975C-D16ADC19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2F9B-2725-4705-A1E8-3829B4B7236A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721B-D6E5-42AD-9151-079C21DA0B59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nettore 1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ttangolo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ttango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ttangolo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ttangolo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ttangolo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e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e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ttangolo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1532-A8F4-4843-B362-4864F1AD907A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2FC7-82C1-40C1-A4C4-898EC8C8AE56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4705-5442-4253-A36B-E5EAA7979ACB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7FAE-D8BC-4476-89A1-B3F2856F07BF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ttangolo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ttangolo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onnettore 1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e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e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359E-A937-4FDD-873D-2E183DF5FB97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0282-DCDE-4B49-8361-4B0B031FA2FB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ttangolo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e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4A46-0272-4BF6-9288-4ACD71AB0D78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40A0-504D-485F-917C-53139EA7ECD9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F636-7038-49D3-B310-39E9761732BC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E696-38E0-4B0D-85DA-D3F2D14F374D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tangolo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tangolo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tangolo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tangolo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e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e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F45A-0B82-42B9-AF5B-BBFF1F040A7B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3D50-E673-4DE4-8A29-3109C2DA9F69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nettore 1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4999-59F7-40F5-BF0D-50DE1F9693A6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D4E3-58D9-4F38-928C-3F00B29D290C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nettore 1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ttangolo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ttangolo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ttangolo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tangolo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ttore 1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ttangolo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e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e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FBC7-C566-4941-960C-30734DB531F4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F1E0-96C9-4E2C-997C-EA5BF15388E6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ttango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tango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tango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tango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ttango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ttango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nettore 1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48D6-A19A-4275-AFE6-BB3A15F5AE8E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9524-65D8-4935-A993-0C9769B61762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ttango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ttangolo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ttango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ttangolo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ttangolo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E259-205B-4AEB-B713-683CF01556BF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408C-8B5C-4D53-85C0-1558508A78BC}" type="slidenum"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ttangolo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ttango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ttangolo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tangolo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ttango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ttangolo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ttangolo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nettore 1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e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e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ttangolo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BDE9-675C-4087-9F09-D5CD50806442}" type="slidenum">
              <a:rPr b="0" lang="it-IT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0750-9AA6-43BB-8CFE-3868B945483D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C.P.G.T. - Corso Taranto 31 maggio 2014 - dott. Michele Anconae Anc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it-IT" sz="3000" spc="-1" strike="noStrike">
                <a:solidFill>
                  <a:srgbClr val="7b9899"/>
                </a:solidFill>
                <a:latin typeface="Georgia"/>
              </a:rPr>
              <a:t>Taranto 31 maggio 2014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Segnaposto piè di pagina 2"/>
          <p:cNvSpPr/>
          <p:nvPr/>
        </p:nvSpPr>
        <p:spPr>
          <a:xfrm>
            <a:off x="304920" y="6410160"/>
            <a:ext cx="79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numero diapositiva 3"/>
          <p:cNvSpPr/>
          <p:nvPr/>
        </p:nvSpPr>
        <p:spPr>
          <a:xfrm>
            <a:off x="4356000" y="10526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9D42-8624-4E75-983C-0276D4334B17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699920"/>
            <a:ext cx="85042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eorgia"/>
              </a:rPr>
              <a:t>Il Sistema probatorio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Georgia"/>
              </a:rPr>
              <a:t>nel Processo Tributario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eorgia"/>
              </a:rPr>
              <a:t>Problematiche attuali e prospettive futur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Inerzia delle part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Segnaposto piè di pagina 3"/>
          <p:cNvSpPr/>
          <p:nvPr/>
        </p:nvSpPr>
        <p:spPr>
          <a:xfrm>
            <a:off x="304920" y="6410160"/>
            <a:ext cx="693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4CC8-0E80-4D5A-A9BD-38253AE3ACB9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eorgia"/>
              </a:rPr>
              <a:t>Poteri istruttori del giudice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eorgia"/>
              </a:rPr>
              <a:t>O Potere integrativo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6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Ampiezza Onere Prov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Segnaposto piè di pagina 3"/>
          <p:cNvSpPr/>
          <p:nvPr/>
        </p:nvSpPr>
        <p:spPr>
          <a:xfrm>
            <a:off x="304920" y="6410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0241-D96E-4319-88D3-387786BE7788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mministrazione Finanziaria: Onere primario (fondamento pretesa tributaria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ontribuente: Onere secondario (fatti estintivi, impeditivi, modificativi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. par. 7 raccolt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Ipotesi particolari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Segnaposto piè di pagina 3"/>
          <p:cNvSpPr/>
          <p:nvPr/>
        </p:nvSpPr>
        <p:spPr>
          <a:xfrm>
            <a:off x="304920" y="641016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A552-E5BA-4AB9-99EA-FA4265ECEE2C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Onere a carico contribuent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) istanze rimbors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B) diritto ad esenzioni e agevolazioni fiscal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) Maggior dann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No accertamento negativ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 8-9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115920"/>
            <a:ext cx="85345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7b9899"/>
                </a:solidFill>
                <a:latin typeface="Georgia"/>
              </a:rPr>
              <a:t>Divieti legali</a:t>
            </a:r>
            <a:br>
              <a:rPr sz="3000"/>
            </a:br>
            <a:r>
              <a:rPr b="0" lang="it-IT" sz="3000" spc="-1" strike="noStrike">
                <a:solidFill>
                  <a:srgbClr val="7b9899"/>
                </a:solidFill>
                <a:latin typeface="Georgia"/>
              </a:rPr>
              <a:t> (art. 7 D.lgs.vo n. 546/92)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Segnaposto piè di pagina 3"/>
          <p:cNvSpPr/>
          <p:nvPr/>
        </p:nvSpPr>
        <p:spPr>
          <a:xfrm>
            <a:off x="304920" y="64101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D9FC-B458-4EF4-9CA1-9878AF8859AB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Divieto giurament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Divieto prova testimoni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ltri divieti: es. divieto utilizzabilità documenti e dati non esibiti o addotti dal contribuente su richiesta dell’Ufficio (art. 32, co. 1 e 4 DPR 600/73); idem IVA: inutilizzabili documenti non esibiti in sede di accesso, a meno che contribuente non dimostri in giudizio di non aver potuto esibire gli stessi; ecc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Ratio norme diviet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Segnaposto piè di pagina 3"/>
          <p:cNvSpPr/>
          <p:nvPr/>
        </p:nvSpPr>
        <p:spPr>
          <a:xfrm>
            <a:off x="304920" y="6410160"/>
            <a:ext cx="77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9204-5C12-4680-A0C9-9615BF3552A0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9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9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000000"/>
                </a:solidFill>
                <a:latin typeface="Georgia"/>
              </a:rPr>
              <a:t>1) natura documentale processo tributario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9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9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000000"/>
                </a:solidFill>
                <a:latin typeface="Georgia"/>
              </a:rPr>
              <a:t>2) sollecitazione (coazione) per vaste categorie di contribuenti alla regolare tenuta scritture contabili obbligatorie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orta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Segnaposto piè di pagina 3"/>
          <p:cNvSpPr/>
          <p:nvPr/>
        </p:nvSpPr>
        <p:spPr>
          <a:xfrm>
            <a:off x="304920" y="641016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B19A-C2BD-4E88-AC51-6DCEE329DA48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Interpretazione stricto iure (art. 12 disp. Prel. C.c.) perché derogano al principio generale contrario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Solo prova testimoniale in senso tipico = dichiarazione resa da un terzo oralmente davanti al giudice, nel contraddittorio delle part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Divieti e artt. 3 e 24 Cost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Segnaposto piè di pagina 3"/>
          <p:cNvSpPr/>
          <p:nvPr/>
        </p:nvSpPr>
        <p:spPr>
          <a:xfrm>
            <a:off x="304920" y="6410160"/>
            <a:ext cx="685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ED9F-533F-4E4E-9C3F-6A0F46EE8EC6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eorgia"/>
              </a:rPr>
              <a:t>Corte Costituzionale sent. N. 18 del 12.01.200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10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Le prove atipich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Segnaposto piè di pagina 3"/>
          <p:cNvSpPr/>
          <p:nvPr/>
        </p:nvSpPr>
        <p:spPr>
          <a:xfrm>
            <a:off x="304920" y="6410160"/>
            <a:ext cx="729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087C-0944-47F8-AE84-5DD2A808A51A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9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9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000000"/>
                </a:solidFill>
                <a:latin typeface="Georgia"/>
              </a:rPr>
              <a:t>Informazioni, dati e chiarimenti da soggetti terzi = liberamente valutabili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9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9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000000"/>
                </a:solidFill>
                <a:latin typeface="Georgia"/>
              </a:rPr>
              <a:t>Testimonianza scritta (art. 257 bis c.p.c.): ammissibile? Valore di prova o elemento liberamente valutabile?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9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Georgia"/>
              </a:rPr>
              <a:t>(vedi par.  11 raccolta)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rove illegittimamente acquisit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Segnaposto piè di pagina 3"/>
          <p:cNvSpPr/>
          <p:nvPr/>
        </p:nvSpPr>
        <p:spPr>
          <a:xfrm>
            <a:off x="304920" y="6410160"/>
            <a:ext cx="75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4547-540A-4948-97BE-5B823100534B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eorgia"/>
              </a:rPr>
              <a:t>Occorre previsione specifica di inutilizzabilità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Georgia"/>
              </a:rPr>
              <a:t>Inutilizzabilità per violazione di valori costituzionalmente garantiti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 12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Il divieto di presunzioni semplic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Segnaposto piè di pagina 3"/>
          <p:cNvSpPr/>
          <p:nvPr/>
        </p:nvSpPr>
        <p:spPr>
          <a:xfrm>
            <a:off x="304920" y="6410160"/>
            <a:ext cx="79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47F4-CA86-4A36-9523-ACF7A052E3BE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rt. 2729 co. 2 c.c.: “Le presunzioni non si possono ammettere nei casi in cui la legge esclude la prova per testimoni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Tuttavia: natura materia e sistema dei mezzi di indagine a disposizione degli uffici e dei giudici tributari, ne consente utiliz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 13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3320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Georgia"/>
              </a:rPr>
              <a:t>CHI VUOL FAR VALERE UN DIRITTO IN GIUDIZIO DEVE PROVARE I FATTI CHE NE COSTITUISCONO IL FONDAMENTO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Georgia"/>
              </a:rPr>
              <a:t>CHI ECCEPISCE L'INEFFICACIA DI TALI FATTI OVVERO ECCEPISCE CHE IL DIRITTO SI È MODIFICATO O ESTINTO DEVE PROVARE I FATTI SU CUI L'ECCEZIONE SI FONDA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Segnaposto piè di pagina 4"/>
          <p:cNvSpPr/>
          <p:nvPr/>
        </p:nvSpPr>
        <p:spPr>
          <a:xfrm>
            <a:off x="304920" y="6410160"/>
            <a:ext cx="7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numero diapositiva 3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4925-456C-42E9-9A96-04C220E0F220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Georgia"/>
              </a:rPr>
              <a:t>Art. 2697 c.c.: </a:t>
            </a:r>
            <a:br>
              <a:rPr sz="3800"/>
            </a:br>
            <a:r>
              <a:rPr b="1" lang="it-IT" sz="3800" spc="-1" strike="noStrike">
                <a:solidFill>
                  <a:srgbClr val="000000"/>
                </a:solidFill>
                <a:latin typeface="Georgia"/>
              </a:rPr>
              <a:t>Onere della prova.</a:t>
            </a:r>
            <a:br>
              <a:rPr sz="3800"/>
            </a:b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Argomenti di prova (art. 116 c.p.c.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Segnaposto piè di pagina 3"/>
          <p:cNvSpPr/>
          <p:nvPr/>
        </p:nvSpPr>
        <p:spPr>
          <a:xfrm>
            <a:off x="304920" y="6410160"/>
            <a:ext cx="75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39F7-483A-41D0-8CC1-B34D38161D1A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ontegno delle parti nel processo ( es. mancato utilizzo da parte di A.F. di elementi già in suo possesso e favorevoli al contribuente o mancata contestazione fatti allegati ex adverso; ma vedi oltre, scheda 22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Onere A.F. ancora più forte e stringente, vedi art. 18 Legge 241/90 e art. 6 Legge 212/200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 14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L. 241/90 e L. 212/200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Segnaposto piè di pagina 3"/>
          <p:cNvSpPr/>
          <p:nvPr/>
        </p:nvSpPr>
        <p:spPr>
          <a:xfrm>
            <a:off x="304920" y="6410160"/>
            <a:ext cx="72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843F-ECEC-435F-8F99-9BBC54354DC8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Georgia"/>
              </a:rPr>
              <a:t>Art. 18 co. 2 L. 241/90: “I documenti attestanti atti, fatti, qualità e stati soggettivi, necessari per l'istruttoria del procedimento, sono acquisiti d'ufficio quando sono in possesso dell'amministrazione procedente, ovvero sono detenuti, istituzionalmente, da altre pubbliche amministrazioni. L'amministrazione procedente può richiedere agli interessati i soli elementi necessari per la ricerca dei documenti.”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Georgia"/>
              </a:rPr>
              <a:t>Art. 6 co. 4 L. 212/2000: “ Al contribuente non possono, in ogni caso, essere richiesti documenti ed informazioni gia' in possesso dell'amministrazione finanziaria o di altre amministrazioni pubbliche indicate dal contribuente. Tali documenti ed informazioni sono acquisiti ai sensi dell'articolo 18, commi 2 e 3, della legge 7 agosto 1990, n. 241, relativi ai casi di accertamento d'ufficio di fatti, stati e qualita' del soggetto interessato dalla azione amministrativa”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Non contestazione (art. 115 c.p.c.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Segnaposto piè di pagina 3"/>
          <p:cNvSpPr/>
          <p:nvPr/>
        </p:nvSpPr>
        <p:spPr>
          <a:xfrm>
            <a:off x="304920" y="6410160"/>
            <a:ext cx="72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F627-94A1-4BC3-A2FF-ADD319DBB940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eorgia"/>
              </a:rPr>
              <a:t>Nuovo art. 115 c.p.c.  (Legge n. 69/2009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 15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Fatto notori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2" name="Segnaposto piè di pagina 3"/>
          <p:cNvSpPr/>
          <p:nvPr/>
        </p:nvSpPr>
        <p:spPr>
          <a:xfrm>
            <a:off x="304920" y="641016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41BD-A2CA-499A-827A-2619BC912DDF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Particolare rigore : tale grado di certezza da apparire incontestabile: no acquisizioni specifiche di natura tecnica, valore corrente immobili, dati estimativi, valori di mercat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 16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C.T.U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Segnaposto piè di pagina 3"/>
          <p:cNvSpPr/>
          <p:nvPr/>
        </p:nvSpPr>
        <p:spPr>
          <a:xfrm>
            <a:off x="304920" y="6410160"/>
            <a:ext cx="82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14C9-6B45-461C-A298-7E3C7433274C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Sicuramente ammissibi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Vecchio indirizzo: potere sostitutivo CC.T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Nuovo indirizzo (111 Cost.): potere integrativ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Destinata ad essere utilizzata sempre più spesso (nuova composizione CC.TT.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. par. 17 raccolt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Disegno di legge Pagliari + altri </a:t>
            </a:r>
            <a:br>
              <a:rPr sz="3300"/>
            </a:b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(Progetto Glendi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odice del Processo tributario (D.D.L. Senato n. 988 del 1.08.2013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rt. 15: Poteri istruttori del giudice tributari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o.1</a:t>
            </a:r>
            <a:r>
              <a:rPr b="0" i="1" lang="it-IT" sz="2700" spc="-1" strike="noStrike">
                <a:solidFill>
                  <a:srgbClr val="000000"/>
                </a:solidFill>
                <a:latin typeface="Georgia"/>
              </a:rPr>
              <a:t>: Il giudice tributario pone a fondamento della decisione i fatti allegati dalla parte che non siano stati oggetto di specifica contestazione dalla controparte costituita in giudizio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(=principio non contestazion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Segnaposto piè di pagina 3"/>
          <p:cNvSpPr/>
          <p:nvPr/>
        </p:nvSpPr>
        <p:spPr>
          <a:xfrm>
            <a:off x="304920" y="6410160"/>
            <a:ext cx="726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egnaposto numero diapositiva 4"/>
          <p:cNvSpPr/>
          <p:nvPr/>
        </p:nvSpPr>
        <p:spPr>
          <a:xfrm>
            <a:off x="4429080" y="12142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DABF-EA5A-42CC-A43D-E8E2535DD260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rogetto Glend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rt. 15 co. 2: </a:t>
            </a:r>
            <a:r>
              <a:rPr b="0" i="1" lang="it-IT" sz="2700" spc="-1" strike="noStrike">
                <a:solidFill>
                  <a:srgbClr val="000000"/>
                </a:solidFill>
                <a:latin typeface="Georgia"/>
              </a:rPr>
              <a:t>“Salvo quanto previsto al comma 1, il giudice tributario, nei limiti dei fatti allegati dalle parti e al fine di verificarne la verità, esercita tutti i poteri istruttori di accesso, di richiesta di dati, di informazioni e di chiarimenti che la legge riconosce ai soggetti che hanno emesso gli atti oggetto d’impugnazione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Segnaposto piè di pagina 3"/>
          <p:cNvSpPr/>
          <p:nvPr/>
        </p:nvSpPr>
        <p:spPr>
          <a:xfrm>
            <a:off x="304920" y="6410160"/>
            <a:ext cx="733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1C00-42B0-43FE-A0F4-BDBF8EC382A1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rogetto Glend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rt. 15 co. 3: </a:t>
            </a:r>
            <a:r>
              <a:rPr b="0" i="1" lang="it-IT" sz="2700" spc="-1" strike="noStrike">
                <a:solidFill>
                  <a:srgbClr val="000000"/>
                </a:solidFill>
                <a:latin typeface="Georgia"/>
              </a:rPr>
              <a:t>“Non sono ammessi l’interrogatorio formale, il giuramento, decisorio e suppletorio, nonché ogni mezzo di prova legale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Segnaposto piè di pagina 3"/>
          <p:cNvSpPr/>
          <p:nvPr/>
        </p:nvSpPr>
        <p:spPr>
          <a:xfrm>
            <a:off x="304920" y="6410160"/>
            <a:ext cx="733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9FBD-322C-4A28-8BA0-B503CF47FF55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rogetto Glend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01320" y="1428480"/>
            <a:ext cx="85042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eorgia"/>
              </a:rPr>
              <a:t>Art. 15 co. 4: </a:t>
            </a:r>
            <a:r>
              <a:rPr b="0" i="1" lang="it-IT" sz="2400" spc="-1" strike="noStrike">
                <a:solidFill>
                  <a:srgbClr val="000000"/>
                </a:solidFill>
                <a:latin typeface="Georgia"/>
              </a:rPr>
              <a:t>“Il giudice tributario, se lo ritiene indispensabile per la decisione, anche d’ufficio, può richiedere informazioni scritte sui fatti di causa alle parti e ai terzi, comunicando ad essi, tramite la segreteria, apposito modulo di richiesta di informazioni, a cui il destinatario è tenuto a rispondere, restituendo, anche a mezzo posta, all’ufficio che l’ha inviato, il modulo stesso, con firma gratuitamente autenticata da notaio, da segretario o cancelliere di qualsiasi ufficio giudiziario o da segretario comunale. Le risultanze acquisite sono liberamente valutate dal giudice tributario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Segnaposto piè di pagina 3"/>
          <p:cNvSpPr/>
          <p:nvPr/>
        </p:nvSpPr>
        <p:spPr>
          <a:xfrm>
            <a:off x="304920" y="6410160"/>
            <a:ext cx="762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0CA7-040F-4652-BC85-933187CB7509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rogetto Glend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eorgia"/>
              </a:rPr>
              <a:t>Art. 15 co, 5: </a:t>
            </a:r>
            <a:r>
              <a:rPr b="0" i="1" lang="it-IT" sz="3200" spc="-1" strike="noStrike">
                <a:solidFill>
                  <a:srgbClr val="000000"/>
                </a:solidFill>
                <a:latin typeface="Georgia"/>
              </a:rPr>
              <a:t>“Il giudice tributario, se le ritiene rilevanti, può liberamente valutare le informazioni di terzi fornite dalle parti, per quanto possibile, nelle forme di cui al comma 4”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Segnaposto piè di pagina 3"/>
          <p:cNvSpPr/>
          <p:nvPr/>
        </p:nvSpPr>
        <p:spPr>
          <a:xfrm>
            <a:off x="304920" y="6410160"/>
            <a:ext cx="762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A1F6-B8C6-4152-A586-B3D68D6185A6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Nel Processo Tributari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Segnaposto piè di pagina 4"/>
          <p:cNvSpPr/>
          <p:nvPr/>
        </p:nvSpPr>
        <p:spPr>
          <a:xfrm>
            <a:off x="304920" y="6410160"/>
            <a:ext cx="79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numero diapositiva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67CD-B470-457A-A07E-B5A35CCF7384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rt. 2697 è condizionato d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Struttura e Funzione P.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Requisiti validità Istruzione amministrativa ante caus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Limiti e Contenuto motivazione atti impositiv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Giusto procedimento (art. 97 co. 1 Cost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Giusto processo (art. 111, co. 1 e 2 Cost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rogetto Glend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Art. 15 co. 6: </a:t>
            </a:r>
            <a:r>
              <a:rPr b="0" i="1" lang="it-IT" sz="2800" spc="-1" strike="noStrike">
                <a:solidFill>
                  <a:srgbClr val="000000"/>
                </a:solidFill>
                <a:latin typeface="Georgia"/>
              </a:rPr>
              <a:t>“Il giudice tributario, quando occorre acquisire elementi conoscitivi di particolare complessità, ritenuti indispensabili per la decisione, può nominare consulenti tecnici, ai quali, e per i compiti ad essi affidati, si applica la disciplina prevista dal codice di procedura civile”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Segnaposto piè di pagina 3"/>
          <p:cNvSpPr/>
          <p:nvPr/>
        </p:nvSpPr>
        <p:spPr>
          <a:xfrm>
            <a:off x="304920" y="6410160"/>
            <a:ext cx="705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1512-D2B1-47A7-9829-0CB9D3C013E4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The e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4" name="Segnaposto piè di pagina 2"/>
          <p:cNvSpPr/>
          <p:nvPr/>
        </p:nvSpPr>
        <p:spPr>
          <a:xfrm>
            <a:off x="304920" y="6410160"/>
            <a:ext cx="664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egnaposto numero diapositiva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DD40-48EE-4212-930E-9768BA5E36BF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Georgia"/>
              </a:rPr>
              <a:t>Grazie per l’attenzione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Georgia"/>
              </a:rPr>
              <a:t>Michele Ancon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>
                <a:solidFill>
                  <a:srgbClr val="000000"/>
                </a:solidFill>
                <a:latin typeface="Georgia"/>
              </a:rPr>
              <a:t>Presidente di sezione C.T.R. Pugl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Attore e Convenut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Segnaposto piè di pagina 3"/>
          <p:cNvSpPr/>
          <p:nvPr/>
        </p:nvSpPr>
        <p:spPr>
          <a:xfrm>
            <a:off x="304920" y="6410160"/>
            <a:ext cx="72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4391-7646-4D9C-9CD4-28E284EF1BE7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ontribuente attore in senso formale – convenuto in senso sostanzi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mministrazione Finanziaria resistente in senso formale, ma attore in senso sostanzi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Ripartizione onere prov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Segnaposto piè di pagina 3"/>
          <p:cNvSpPr/>
          <p:nvPr/>
        </p:nvSpPr>
        <p:spPr>
          <a:xfrm>
            <a:off x="304920" y="6410160"/>
            <a:ext cx="70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A487-3141-4DD3-A3B4-19DB24E6538B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mministrazione finanziaria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) legittimità atto imposizione tributaria;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b) Fondamento obbligazione fisc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ontribuent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) illegittimità atto impositivo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b) insussistenza fondamento obbligazione fisc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1. raccolt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Ampiezza onere prov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Segnaposto piè di pagina 3"/>
          <p:cNvSpPr/>
          <p:nvPr/>
        </p:nvSpPr>
        <p:spPr>
          <a:xfrm>
            <a:off x="304920" y="6410160"/>
            <a:ext cx="72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DD4D-CF8A-4E81-925E-2F7681A136A9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mministrazione finanziaria: nei limiti degli elementi addotti nell’atto impositivo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ontribuente:  anche con riferimento ad elementi divers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2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Presunzione di legittimità atto impugnato?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Segnaposto piè di pagina 3"/>
          <p:cNvSpPr/>
          <p:nvPr/>
        </p:nvSpPr>
        <p:spPr>
          <a:xfrm>
            <a:off x="304920" y="6410160"/>
            <a:ext cx="73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7323-F227-43CB-8029-A1B035B946B3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eorgia"/>
              </a:rPr>
              <a:t>No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eorgia"/>
              </a:rPr>
              <a:t>Poteri del giudice tributario di acquisire aliunde elementi di valutazione autonoma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Georgia"/>
              </a:rPr>
              <a:t>(vedi par. 3 raccolta)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2697 c.c. e 111 Cost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Segnaposto piè di pagina 3"/>
          <p:cNvSpPr/>
          <p:nvPr/>
        </p:nvSpPr>
        <p:spPr>
          <a:xfrm>
            <a:off x="304920" y="64101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693F-F264-4F50-9691-CE98D82C2E34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orte Costituzionale 29.03.2007 n. 10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A) giudice no longa manus  dell’ A.F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B) no supplenza carenze amministrazio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) no supplenza carenze contribuen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D) sì anche produzione documenti ex art. 210 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Georgia"/>
              </a:rPr>
              <a:t>c.p.c., ma su istanza di parte, no ex offici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4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7b9899"/>
                </a:solidFill>
                <a:latin typeface="Georgia"/>
              </a:rPr>
              <a:t>Onere prova e Giusto Procediment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Segnaposto piè di pagina 3"/>
          <p:cNvSpPr/>
          <p:nvPr/>
        </p:nvSpPr>
        <p:spPr>
          <a:xfrm>
            <a:off x="304920" y="6410160"/>
            <a:ext cx="75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.P.G.T. - Corso Taranto 31 maggio 2014 - dott. Michele Anc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egnaposto numero diapositiva 4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D93D-7942-4DF4-B3F9-75F03FBF4993}" type="slidenum">
              <a:rPr b="0" lang="it-IT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Es. Studi di setto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A) Onere contraddittorio in fase amministrativ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B) Onere per A.F. di dare conto del perché sono state disattese ragioni contribuen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C) Contribuente non vincolato da eccezioni sollev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D) se contribuente non si presenta, sufficiente riferimento a standards (presunzioni semplici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orgia"/>
              </a:rPr>
              <a:t>(vedi par. 5 raccolta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6:24:06Z</dcterms:created>
  <dc:creator>Michele</dc:creator>
  <dc:description/>
  <dc:language>en-US</dc:language>
  <cp:lastModifiedBy>Michele Ancona</cp:lastModifiedBy>
  <dcterms:modified xsi:type="dcterms:W3CDTF">2014-05-29T17:09:58Z</dcterms:modified>
  <cp:revision>56</cp:revision>
  <dc:subject/>
  <dc:title>Il Sistema delle Prove nel Processo Tributario</dc:title>
</cp:coreProperties>
</file>